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ouritz.co.uk/Mouritz%2520illustrations/Jones.bw.gif&amp;imgrefurl=http://www.mouritz.co.uk/1.03.FreedomChange.html&amp;usg=__orr9pILh_HzxUnPvSi5PKl6PG78=&amp;h=207&amp;w=145&amp;sz=28&amp;hl=en&amp;start=1&amp;um=1&amp;tbnid=T4i0D4ipVdsn9M:&amp;tbnh=105&amp;tbnw=74&amp;prev=/images%3Fq%3DMcVicker%2BHunt%26ndsp%3D20%26hl%3Den%26sa%3DN%26um%3D1" TargetMode="External"/><Relationship Id="rId2" Type="http://schemas.openxmlformats.org/officeDocument/2006/relationships/hyperlink" Target="http://images.google.com/imgres?imgurl=http://www.mouritz.co.uk/Mouritz%2520illustrations/Jones.bw.gif&amp;imgrefurl=http://www.mouritz.co.uk/1.03.FreedomChange.html&amp;usg=__orr9pILh_HzxUnPvSi5PKl6PG78=&amp;h=207&amp;w=145&amp;sz=28&amp;hl=en&amp;start=1&amp;um=1&amp;tbnid=T4i0D4ipVdsn9M:&amp;tbnh=105&amp;tbnw=74&amp;prev=/images%3Fq%3DMcVicker%2BHunt%26ndsp%3D20%26hl%3Den%26sa%3DN%26um%3D1" TargetMode="External"/><Relationship Id="rId3" Type="http://schemas.openxmlformats.org/officeDocument/2006/relationships/hyperlink" Target="http://images.google.com/imgres?imgurl=http://www.mouritz.co.uk/Mouritz%2520illustrations/Jones.bw.gif&amp;imgrefurl=http://www.mouritz.co.uk/1.03.FreedomChange.html&amp;usg=__orr9pILh_HzxUnPvSi5PKl6PG78=&amp;h=207&amp;w=145&amp;sz=28&amp;hl=en&amp;start=1&amp;um=1&amp;tbnid=T4i0D4ipVdsn9M:&amp;tbnh=105&amp;tbnw=74&amp;prev=/images%3Fq%3DMcVicker%2BHunt%26ndsp%3D20%26hl%3Den%26sa%3DN%26um%3D1" TargetMode="External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452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Gill Sans"/>
              </a:rPr>
              <a:t>Environmental Influences</a:t>
            </a:r>
            <a:endParaRPr b="0" lang="en-US" sz="12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635004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arah Hwang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Gill Sans"/>
              </a:rPr>
              <a:t>The Impact of early intervention</a:t>
            </a:r>
            <a:endParaRPr b="0" lang="en-US" sz="79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409760" y="3187800"/>
            <a:ext cx="3975120" cy="56768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7049160" y="7845840"/>
            <a:ext cx="5029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cVicker Hunt (1982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52280" y="1282680"/>
            <a:ext cx="12103200" cy="717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Gill Sans"/>
              </a:rPr>
              <a:t>McVicker Hunt(1982)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Gill Sans"/>
              </a:rPr>
              <a:t>-“Tutor Human Enrichment” program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Gill Sans"/>
              </a:rPr>
              <a:t>-Project Head Start (1965)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61920" y="4075200"/>
            <a:ext cx="35974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  <a:ea typeface="Gill Sans"/>
              </a:rPr>
              <a:t>Experiments: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1778040" y="5486400"/>
            <a:ext cx="9194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  <a:ea typeface="Lucida Grande"/>
              </a:rPr>
              <a:t>→</a:t>
            </a:r>
            <a:r>
              <a:rPr b="0" lang="en-US" sz="3700" spc="-1" strike="noStrike">
                <a:solidFill>
                  <a:srgbClr val="ffffff"/>
                </a:solidFill>
                <a:latin typeface="Gill Sans"/>
                <a:ea typeface="Lucida Grande"/>
              </a:rPr>
              <a:t>Playing vocal games with infants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0934640" y="5257800"/>
            <a:ext cx="2363760" cy="31622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612800" y="7334280"/>
            <a:ext cx="9194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  <a:ea typeface="Lucida Grande"/>
              </a:rPr>
              <a:t>→</a:t>
            </a:r>
            <a:r>
              <a:rPr b="0" lang="en-US" sz="3700" spc="-1" strike="noStrike">
                <a:solidFill>
                  <a:srgbClr val="ffffff"/>
                </a:solidFill>
                <a:latin typeface="Gill Sans"/>
                <a:ea typeface="Lucida Grande"/>
              </a:rPr>
              <a:t>High-quality programs for the disadvantaged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  <a:ea typeface="Lucida Grande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8267760" y="1600200"/>
            <a:ext cx="4079880" cy="30607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977400" y="-25416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Gill Sans"/>
              </a:rPr>
              <a:t>Early Intervention Effects</a:t>
            </a:r>
            <a:endParaRPr b="0" lang="en-US" sz="79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Tutor Human Enrichment”</a:t>
            </a: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Gill Sans"/>
              </a:rPr>
              <a:t>Results</a:t>
            </a:r>
            <a:endParaRPr b="0" lang="en-US" sz="66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3162240" y="2603520"/>
          <a:ext cx="9537840" cy="6477120"/>
        </p:xfrm>
        <a:graphic>
          <a:graphicData uri="http://schemas.openxmlformats.org/drawingml/2006/table">
            <a:tbl>
              <a:tblPr/>
              <a:tblGrid>
                <a:gridCol w="4768920"/>
                <a:gridCol w="4768920"/>
              </a:tblGrid>
              <a:tr h="21589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Babies without much car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1 Babies with care/ responses (22 months)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89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undeveloped sense of personal control over environmen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uld name 50 object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92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annot sit up (at age 2) </a:t>
                      </a:r>
                      <a:br>
                        <a:rPr sz="3300"/>
                      </a:b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or walk (at age 4)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uld name 22 body parts 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288612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74720" y="2768400"/>
            <a:ext cx="11785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Produce at least short-term cognitive gain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Increase school readiness 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prevent repeating a grade/special educa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254160"/>
            <a:ext cx="11049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Gill Sans"/>
                <a:ea typeface="Gill Sans"/>
              </a:rPr>
              <a:t>Project Head Start (1965) </a:t>
            </a:r>
            <a:r>
              <a:rPr b="0" lang="en-US" sz="9600" spc="-1" strike="noStrike">
                <a:solidFill>
                  <a:srgbClr val="ffffff"/>
                </a:solidFill>
                <a:latin typeface="Gill Sans"/>
                <a:ea typeface="Gill Sans"/>
              </a:rPr>
              <a:t>Results</a:t>
            </a:r>
            <a:endParaRPr b="0" lang="en-US" sz="9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203040" y="2089080"/>
            <a:ext cx="12128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  <a:ea typeface="Gill Sans"/>
              </a:rPr>
              <a:t>Purpos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  <a:ea typeface="Gill Sans"/>
              </a:rPr>
              <a:t>: to enhance children’s chance for academic  succes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240" y="139320"/>
            <a:ext cx="10820520" cy="360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Schooling Effects</a:t>
            </a:r>
            <a:r>
              <a:rPr b="0" lang="en-US" sz="6900" spc="-1" strike="noStrike">
                <a:solidFill>
                  <a:srgbClr val="ffffff"/>
                </a:solidFill>
                <a:latin typeface="Gill Sans"/>
              </a:rPr>
              <a:t>:</a:t>
            </a: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tself is intervention that pays dividends reflected in intelligence scores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20560" y="3085920"/>
            <a:ext cx="11760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Stephen Ceci &amp; Wendy Williams (1997)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Schooling &amp; intelligence contribute each other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Intelligence scores rise during school year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8631360" y="8459280"/>
            <a:ext cx="3655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Gill Sans"/>
                <a:ea typeface="Gill Sans"/>
              </a:rPr>
              <a:t>Page 341: diagram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ictur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4760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images.google.com/imgres?imgurl=http://www.mouritz.co.uk/Mouritz%2520illustrations/Jones.bw.gif&amp;imgrefurl=http://www.mouritz.co.uk/1.03.FreedomChange.html&amp;usg=__orr9pILh_HzxUnPvSi5PKl6PG78=&amp;h=207&amp;w=145&amp;sz=28&amp;hl=en&amp;start=1&amp;um=1&amp;tbnid=T4i0D4ipVdsn9M:&amp;tbnh=105&amp;tbnw=74&amp;prev=/images%3Fq%3DMcVicker%2BHunt%26ndsp%3D20%26hl%3Den%26sa%3DN%26um%3D1</a:t>
            </a:r>
            <a:endParaRPr b="0" lang="en-US" sz="19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imagesearch.naver.com/search.naver?where=idetail&amp;rev=5&amp;query=%BF%EC%B4%C2%BE%C6%B1%E2%B8%DE%C0%CE&amp;from=image&amp;ac=-1&amp;sort=0&amp;res_fr=0&amp;res_to=0&amp;merge=0&amp;spq=0&amp;start=2&amp;a=pho_l&amp;f=tab&amp;r=2&amp;u=http%3A%2F%2Fcafe.naver.com%2Fhttpygwon21com%2F6237&amp;thumbnail=http%3A%2F%2Fthumbview02.search.naver.com%2Fthumbnails%3Fq%3Dhttp%3A%2F%2Fcafefiles.naver.net%2Fdata38%2F2009%2F3%2F21%2F103%2F%25C0%25CC%25BA%25B0%25C5%25EB%25BA%25B8.._gjpj814.jpg&amp;signature=736511256475&amp;gdid=90000004_00C646390000185D00000000</a:t>
            </a:r>
            <a:endParaRPr b="0" lang="en-US" sz="19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www.csaac.org/newsandevents/2009/aamonth/PreSchool%20Pictures%20041.jpg</a:t>
            </a:r>
            <a:endParaRPr b="0" lang="en-US" sz="19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Gill Sans"/>
              </a:rPr>
              <a:t>http://images.google.com/imgres?imgurl=http://www.downsyndrome.org.za/images/tmipremilla.JPG&amp;imgrefurl=http://www.downsyndrome.org.za/main.aspx%3Fartid%3D66&amp;usg=__qm4lgu7F9GwnFL4odQO3c4KuYcg=&amp;h=373&amp;w=279&amp;sz=33&amp;hl=en&amp;start=1&amp;um=1&amp;tbnid=rFjjx2T-trec1M:&amp;tbnh=122&amp;tbnw=91&amp;prev=/images%3Fq%3Dearly%2Bintervention%2Beffects%26ndsp%3D20%26hl%3Den%26sa%3DN%26um%3D1</a:t>
            </a:r>
            <a:endParaRPr b="0" lang="en-US" sz="19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197080"/>
            <a:ext cx="10464840" cy="439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ffffff"/>
                </a:solidFill>
                <a:latin typeface="Gill Sans"/>
              </a:rPr>
              <a:t>THE END.</a:t>
            </a:r>
            <a:endParaRPr b="0" lang="en-US" sz="183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